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5991-B8A2-4F67-8F6A-79091AA2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30F0-B2C8-4E52-89A6-ED753DD0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F77-7BDF-41D3-9F27-06E22353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402A-8A37-414E-8041-C150320A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7D37-3E4C-4B48-9320-52813E1A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39F6-7ECA-4761-A015-64C2624B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4B2B-881B-41B0-9E2A-B1E4C007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120C-06A6-4D2C-9BE1-847D91D2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6FC6-5894-4910-99D9-A509AE07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F7AE-726B-49A3-B7DE-0DBA53F2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A02C-A422-4D18-96D5-6932F807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37EC-BE1D-4DDD-9C5B-163E36AF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B0BD-6484-48CC-89EC-6A470540C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jectile problem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3733920" cy="2882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76720" y="0"/>
            <a:ext cx="64767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jectile is fired straight off of a  100 m high cliff at 50 m/s. Fi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me it takes to hit the groun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 the horizontal distance it will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 The velocity when it hits the grou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762120"/>
            <a:ext cx="3886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jectile problem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04920"/>
            <a:ext cx="9144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all is hit at a 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gle upward and leaves the bat at  25 m/s. 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initial horizontal speed         b)  the initial vertical speed     c) the time it takes to hit the ground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height it will travel                                 e) the horizontal distance it will tra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8229600" cy="3849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4120" y="5334120"/>
            <a:ext cx="34290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nts for 2D projecti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e given data in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in the a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good first step. Find  an equation with t and the things you are 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lways 9.8 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Vx =0 or Vy = 0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 always equals zero at the top of a parabol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1981440" cy="1320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29200" y="5562720"/>
            <a:ext cx="411480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12:15:37Z</dcterms:created>
  <dc:creator>mfrancesco</dc:creator>
  <dc:description/>
  <dc:language>en-US</dc:language>
  <cp:lastModifiedBy>SOCSD</cp:lastModifiedBy>
  <dcterms:modified xsi:type="dcterms:W3CDTF">2008-11-07T17:44:31Z</dcterms:modified>
  <cp:revision>3</cp:revision>
  <dc:subject/>
  <dc:title>PowerPoint Presentation</dc:title>
</cp:coreProperties>
</file>